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8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5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BD361238-9FD3-45F6-B8A8-B87A9030DC09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96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3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1027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3C28D3CB-7758-4ADB-A394-CC2490E3C841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8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068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1134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D07B11C2-258B-4D13-8190-F9CC7021480F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ftr" idx="9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4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75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7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9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1241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3466571B-9E2B-418C-A27D-2C5DED9E21D8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ftr" idx="10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7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8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R:\Templates &amp; Logos\Logos\FEFE Logos from Debra Bowles\FEFE Logo Clear Background.png"/>
          <p:cNvPicPr/>
          <p:nvPr/>
        </p:nvPicPr>
        <p:blipFill>
          <a:blip r:embed="rId2"/>
          <a:stretch/>
        </p:blipFill>
        <p:spPr>
          <a:xfrm>
            <a:off x="1523880" y="6035760"/>
            <a:ext cx="1067040" cy="593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R:\TCAI\Templates &amp; Logos\Logos\TCAI ICON_final.png"/>
          <p:cNvPicPr/>
          <p:nvPr/>
        </p:nvPicPr>
        <p:blipFill>
          <a:blip r:embed="rId3"/>
          <a:stretch/>
        </p:blipFill>
        <p:spPr>
          <a:xfrm>
            <a:off x="6629400" y="6264360"/>
            <a:ext cx="1690560" cy="3110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212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0D4628D9-F0FB-45C3-9FF2-18FE2220C6DC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ftr" idx="1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319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8B70F699-2BBB-438F-AE22-E8A96160650A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ftr" idx="2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426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243043FC-AB6D-412E-829D-D4C0BD90F078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3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533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DDC700C5-B01D-4971-95FA-41CCED3C18B1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ftr" idx="4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640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706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533EBF5E-F306-4909-8D68-594B4C435300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ftr" idx="5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747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813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46AC9594-C28A-42E1-9FD4-130859EFC682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ftr" idx="6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854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6" name="Line 69"/>
          <p:cNvSpPr/>
          <p:nvPr/>
        </p:nvSpPr>
        <p:spPr>
          <a:xfrm>
            <a:off x="609480" y="62485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70"/>
          <p:cNvSpPr/>
          <p:nvPr/>
        </p:nvSpPr>
        <p:spPr>
          <a:xfrm>
            <a:off x="7772400" y="166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16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16" descr="UA-horiz blk"/>
          <p:cNvPicPr/>
          <p:nvPr/>
        </p:nvPicPr>
        <p:blipFill>
          <a:blip r:embed="rId2"/>
          <a:stretch/>
        </p:blipFill>
        <p:spPr>
          <a:xfrm>
            <a:off x="785880" y="6361200"/>
            <a:ext cx="814320" cy="19188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7601040" y="6354720"/>
            <a:ext cx="1141200" cy="22068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4"/>
          <p:cNvSpPr/>
          <p:nvPr/>
        </p:nvSpPr>
        <p:spPr>
          <a:xfrm>
            <a:off x="1066680" y="6248520"/>
            <a:ext cx="7086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December 2004 – Transportation Unit – Shopping for an Auto Loan – Slide </a:t>
            </a:r>
            <a:fld id="{9F62759D-3762-4B73-99AD-113714D9AD96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ftr" idx="7"/>
          </p:nvPr>
        </p:nvSpPr>
        <p:spPr>
          <a:xfrm>
            <a:off x="159984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© Family Economics &amp; Financial Education – Revised December 2004 – Transportation Unit – Shopping for an Automobil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by a grant from Take Charge America, Inc. to the Norton School of Family and Consumer Sciences at the University of Ari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779400" y="608040"/>
            <a:ext cx="767880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Shopping for an Automobile Loan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12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aur"/>
              </a:rPr>
              <a:t>What Do I Need to Know?</a:t>
            </a: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283" name="Picture 5" descr="TN00552_"/>
          <p:cNvPicPr/>
          <p:nvPr/>
        </p:nvPicPr>
        <p:blipFill>
          <a:blip r:embed="rId1"/>
          <a:stretch/>
        </p:blipFill>
        <p:spPr>
          <a:xfrm>
            <a:off x="1447920" y="4267080"/>
            <a:ext cx="3362040" cy="149544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6"/>
          <p:cNvSpPr/>
          <p:nvPr/>
        </p:nvSpPr>
        <p:spPr>
          <a:xfrm>
            <a:off x="5189040" y="0"/>
            <a:ext cx="42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Using Financial Calc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837720" y="8535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The Truth in Lending Act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ree basic rules for lenders: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Lenders cannot advertise a good deal which is not available to all consum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dvertisements must include all or none of the term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f more than 4 installments are required to pay for the good or service, the agreement must say “The cost of credit is included in the price quoted for goods and services”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761760" y="312840"/>
            <a:ext cx="83818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pperplate Gothic Light"/>
              </a:rPr>
              <a:t>The Truth in Lending Act continued</a:t>
            </a:r>
            <a:endParaRPr b="1" lang="en-US" sz="4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Lenders must disclose to consumers: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nterest rate expressed as the APR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Total finance charg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llows consumers to easily compare credit off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779400" y="608040"/>
            <a:ext cx="767880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What’s the Real Price?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1309" name="Picture 6" descr="j0212735"/>
          <p:cNvPicPr/>
          <p:nvPr/>
        </p:nvPicPr>
        <p:blipFill>
          <a:blip r:embed="rId1"/>
          <a:stretch/>
        </p:blipFill>
        <p:spPr>
          <a:xfrm>
            <a:off x="5105520" y="3505320"/>
            <a:ext cx="175896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Variables of a Loan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Negotiated Price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ice being paid for the automobile agreed upon by the seller and buyer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own Paymen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mount of money being paid for the automobile at time of purchase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Usually required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Variable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rade-In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mount of money received for trading in an automobil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Trade-in amount is subtracted from the negotiated price of the automobil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incipal Loan Amoun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mount of the loan for the automobile after subtracting the down payment and/or trade-in price from the negotiated price 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Without interest and fee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Variable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nnual Percentage Rate (APR)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Measure of the cost of credit on a yearly basis expressed as a percentag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ime Period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mount of time the loan will be repaid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Usually expressed in month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onclusion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912600" y="2133720"/>
            <a:ext cx="8110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mpare all offers and variables before signing an agreement!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hanging a variable can either save the consumer money or he/she may end up paying much more than anticipated!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18" name="Picture 8" descr="j0078625[1]"/>
          <p:cNvPicPr/>
          <p:nvPr/>
        </p:nvPicPr>
        <p:blipFill>
          <a:blip r:embed="rId1"/>
          <a:stretch/>
        </p:blipFill>
        <p:spPr>
          <a:xfrm>
            <a:off x="7467480" y="228600"/>
            <a:ext cx="5968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Automobile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912960" y="2209680"/>
            <a:ext cx="55641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entaur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most expensive purchase for most consum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urchased with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Loan / credit – very commo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287" name="Picture 7" descr="j0212833"/>
          <p:cNvPicPr/>
          <p:nvPr/>
        </p:nvPicPr>
        <p:blipFill>
          <a:blip r:embed="rId1"/>
          <a:stretch/>
        </p:blipFill>
        <p:spPr>
          <a:xfrm>
            <a:off x="6172200" y="2666880"/>
            <a:ext cx="180972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779400" y="608040"/>
            <a:ext cx="767880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pperplate Gothic Light"/>
              </a:rPr>
              <a:t>Automobile Loans</a:t>
            </a:r>
            <a:endParaRPr b="1" lang="en-US" sz="6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1289" name="Picture 6" descr="j0279106"/>
          <p:cNvPicPr/>
          <p:nvPr/>
        </p:nvPicPr>
        <p:blipFill>
          <a:blip r:embed="rId1"/>
          <a:stretch/>
        </p:blipFill>
        <p:spPr>
          <a:xfrm>
            <a:off x="4648320" y="3276720"/>
            <a:ext cx="286380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Definition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Auto Loan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– borrowed money to purchase an automobile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erms of the loan will vary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Lender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– a financial institution who offers loans to consumer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redit Rating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– evaluation of a person’s credit history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Based on repayment patterns, prior credit usage, credit history, length of employmen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Definition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Cosigner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– a person who guarantees the loan for the original borrower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Responsible for paying the debt back if the original borrower </a:t>
            </a: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defaul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499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Borrower fails to make payments of principal or interest when due and has not met other requirements of the legal contrac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 cosigner may be required for a loan if the original borrower does not have a credit history or has a bad credit rating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ommon for parents to cosign for young adul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Definition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ecured Loan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– requires a cosigner or </a:t>
            </a: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ollateral 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 loan with collateral means the lender has security interest in the property pledged as collateral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utomobile loans are secured because the automobile is typically the collateral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f the borrower fails to repay the loan, the lender can then seize the collateral by repossessing, or taking back, the property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Lender Option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6478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uto Deal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ommercial Bank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Savings and Loan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redit Union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Online lend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Life Insurance Polici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uto Insurance Compani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298" name="Picture 4" descr="j0185918"/>
          <p:cNvPicPr/>
          <p:nvPr/>
        </p:nvPicPr>
        <p:blipFill>
          <a:blip r:embed="rId1"/>
          <a:stretch/>
        </p:blipFill>
        <p:spPr>
          <a:xfrm>
            <a:off x="5410080" y="2895480"/>
            <a:ext cx="2210040" cy="15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Lender Options continued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redit Unions traditionally offer low APR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uto dealer financing may be easier, but not always the best dea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Remember – compare every variable to decide best option for consumer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onsumer Rights</a:t>
            </a:r>
            <a:endParaRPr b="1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e Truth in Lending Act - 1968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art of the Consumer Protection Ac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pplies to all credit transaction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Mortgages, credit cards, loans, etc.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Requires clear disclosure of key terms and all costs in lending agreement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03" name="Picture 4" descr="SY00570_[1]"/>
          <p:cNvPicPr/>
          <p:nvPr/>
        </p:nvPicPr>
        <p:blipFill>
          <a:blip r:embed="rId1"/>
          <a:stretch/>
        </p:blipFill>
        <p:spPr>
          <a:xfrm>
            <a:off x="7086600" y="2362320"/>
            <a:ext cx="1400040" cy="117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7:21:28Z</dcterms:created>
  <dc:creator>Spicher</dc:creator>
  <dc:description/>
  <dc:language>en-US</dc:language>
  <cp:lastModifiedBy>NHBOE</cp:lastModifiedBy>
  <dcterms:modified xsi:type="dcterms:W3CDTF">2013-02-19T22:15:18Z</dcterms:modified>
  <cp:revision>138</cp:revision>
  <dc:subject/>
  <dc:title>Shopping for a Car Loan</dc:title>
</cp:coreProperties>
</file>